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DB4A-624A-4C39-88EA-F9F087164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des are what the student will be in come f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school camps help support the cost of the high school camps.  We have found that it is hard to get high school kid’s parents to pay more than $75.00 for a ca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st we have had the high school students submit an essay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swiki.cc.gatech.edu:8080/icecamp/271 for a day by day schedule of the high school ca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eb site for ICE is http://coweb.cc.gatech.edu/ice-g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with programming experience can start with the Intermediate programming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beginning to work with the YWCA in 2007.  We also plan to work with the Boys and Girls clubs in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eb site is http://www.cc.gatech.edu/gacomputes.  USG is University System of Georg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564B-B21D-41C7-94DF-93D482BA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D1EF-BFED-49BE-8653-FE0CD9C1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9E6F-CCB5-46F5-B820-A6F2A30F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E37-14AE-49A0-8700-35E40932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AEBB-FC27-41A8-9C20-069B71C3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2A02-6B0F-4096-85BE-B38233A2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5983-22FB-4496-B9BF-EAC96A23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0D1A-9C5E-495B-8F24-E87C555A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1B03-9877-4491-B9D4-D1852B71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316A-0A4C-4179-9986-8B3FF4C6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9C80-6BF7-4550-9FF3-8D737085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3DC-DEAB-4B48-B654-A5FDC190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DC12-4C06-4F09-8DA1-7B5593E0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039E-AE20-4F21-A56A-51E5CCF7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A8B1-B789-4199-B70E-3C65C737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130B-5543-4E4D-A267-15315762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1488-BE35-465B-A0A1-7C722C78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2176-9F8A-4797-8FE2-8ADD4F7D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B486-DF2E-4AAA-8163-B44FBA10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DBDE-CB26-4EC5-BC5F-D6BA571D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BCA0-0599-4F0E-86A5-8678CCBF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29C7-F4BC-45A4-95AB-A9ED9BF6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A41B-26A4-463F-8167-447C3FB6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352-F5BE-4B76-AAE6-2739F2F7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FB02-7F10-477E-B580-B63FE6DC6FD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5180-D3F8-43B1-97F8-442A6AF2F64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oweb.cc.gatech.edu/ice-g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c.gatech.edu/gacompute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ummer Camp Logistics Workshop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rbara Erics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rgia Te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ed Mone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ey to help get new summer camps started at USG institu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$15,000 a year over 3 years ($45,000 tot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Geographic distrib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ustainable and diverse cam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od ratio of male to fema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od ratio of minor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-25% scholarship assis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Lending libra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er Camp 200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weeks of middle school cam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weeks of Scratch and PICO Crickets (6-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advanced week of Alice and LEGO robots (7-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weeks of high school camp (10-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LEGO robo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Media Computation in Pyth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Build a comp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er Camp Fe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10 application fee (not refundab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ddle school camps are $27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undable up to 1 week befo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 kids each se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tio of 1 student assistant per 10 k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 school camps are $7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undable up to 1 week befo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-30 kids each se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tio of 1 student assistant per 10-15 k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mp Hou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ddle School Camps: 9:00AM to 3:00 P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ning Drop Off: 8:15 AM to 8:55A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ternoon Pick Up: 3:15 PM to 4:15 P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 School Camps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:00AM to 3:00 P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ning Drop Off: 8:15 AM to 8:55A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ternoon Pick Up: 3:15 PM to 5:15 P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mission Requir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ademic Requir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 average in math and science or 70+% on standardized t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st submit a copy of report card or test resul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d Forms for Admi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-line registration for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acher Recommendation Form from a current teach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 the teacher a stamped and addressed envelop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ental Release For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ancial Assistance Application Form and supporting documents (if applicable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ditional Form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e 3 weeks before camp star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 or Guardian Information For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horization for Pick-up for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dical release and emergency contact form / Health For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Sche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:15 AM – 8:55 AM Drop-off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:00 AM - 11:30 AM Morning Session 1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:30 AM - 10:45 AM Break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:30 AM - 12:30 PM Lunch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:30 PM - 3:00 PM Afternoon Sess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:15 PM – 4:15 or 5:15 PM Pickup and extracurricular lab tim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cre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iddle school camps usually have one afternoon that they do a recreational activ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ually bowling or swimm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high school camps usually have 1-2 days of recreational activ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 least one tour/scavenger hu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ke pictures at spots around campu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153040" y="1828800"/>
            <a:ext cx="2684520" cy="1752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153040" y="3733920"/>
            <a:ext cx="2684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IC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Georgia Comput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SF BPC Grant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er Camp Detai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</a:t>
            </a: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ICE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nstitute for Computing Edu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artnership betwe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Georgia’s Department of Edu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Georgia Tech’s College of Compu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nounced June 200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 Kathy Cox and Richard DeMill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in more computing teach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Especially Advanced Placement teach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 by training teachers to teach an beginning programming cours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Even teachers with no experi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Have new teachers teach this course 1-3 yea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in teachers to teach an intermediate cour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Teach this for 1-3 yea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in teachers to become a CS AP teac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train more CS teacher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Less than 50 AP CS teachers in Georgia in 200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AP CS exams taken is less than physic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of the AP CS teachers are private school teach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lost some AP CS teach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 ma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For over 370 public high school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rease the number and diversity of CS studen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he number of CS majors has dropped 40-60% since 20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tionw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he percentage of women has dropp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o about 12%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 a high of about 30% in the early 80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has never been a significant percentage of African Americans, Hispanics, or Native America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chieve these goal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Workshops to train new and existing teach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 a multimedia curricul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cessful at Georgia Tech for non-majo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rovide year-round support for Georgia Teach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sits, installation problems, special ev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P Bowl and database of sample exam ques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ding library of LEGO Mindstorms robo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Help recruit new stud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ol computing day at Georgia Tech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mmer camps for middle and high school stud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reach activities with girl scouts, YWCA and oth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toward goal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acher training since 200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144 teachers from 111 schools and 8 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More schools offer computing cla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mmer camps since 200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60 middle school students (started 200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160+ high school students (started 2004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reach since 200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Over 200 girls through the Girl Sco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Georgia Compute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al:  To broaden participation in computing throughout Georg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Funded by a $2 million NSF BPC grant over 3 yea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High school teacher worksho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Outreach activities with the girl scouts, YWCA, and oth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Development of an on-line space for stud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Workshops for USG faculty on our context-based introductions to compu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hops for USG faculty on summer cam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And funds to seed the creation of new summer camp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5:08:52Z</dcterms:created>
  <dc:creator>Barbara Jane Ericson</dc:creator>
  <dc:description/>
  <dc:language>en-US</dc:language>
  <cp:lastModifiedBy>Barbara Jane Ericson</cp:lastModifiedBy>
  <dcterms:modified xsi:type="dcterms:W3CDTF">2007-01-18T20:14:58Z</dcterms:modified>
  <cp:revision>71</cp:revision>
  <dc:subject/>
  <dc:title>Summer Camp Logistics Workshop</dc:title>
</cp:coreProperties>
</file>