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505C-FC91-4693-B21A-E7DA5BC2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per week of middle school c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per week of middle school c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the profit doesn’t count any fees for use of rooms, computers, other equipment or credit card f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ce tutorials are written at a high school to college level and can frustrate some kids.  You can create simple LEGO robots and program them starting in middle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gave full scholarships to parents they didn’t make sure that the kids actually came on time or left at the correc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CC4-409E-4420-B3D3-12458BAF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EA1-1BBF-4885-9C79-13A4E5C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2F4-09D1-4684-B722-BE326E6B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0D3-EAC4-4967-9934-61E340BE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9D96-BB86-44C7-B67C-D3C5FD9A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513-5E28-4265-9131-14DE78D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E5E3-DCA8-4FCE-986B-FB6BAD1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F6D-1B4A-4890-8BAB-615AE32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81D7-8B6E-47B8-9460-129B899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A2E1-B915-4AD2-9E5E-E618E1C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BEB4-A0E6-49F0-BEF7-46728BC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413-9590-4D44-AB41-30857A5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768A-6910-46AE-9429-D1B51B0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3F3B-CB5F-4908-8578-4D044D0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26BE-3288-4254-92A3-54B726E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9618-C757-43C7-8190-795BDAA2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C8E7-9F04-474A-A8E3-DC895840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4D0-CD91-40CB-9D9E-3DC9145F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342-8D6A-451B-9055-DE161E1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3EF-742E-4BB3-BB06-D4A907B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8C7-15F4-4F6C-B825-A9DF985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2CE-9903-4C4C-BFA4-A379153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A4C-071A-4F48-987A-6DF41FA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6ED-AC15-469B-AB6C-FFB374F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08F-8238-47FF-BE66-801C60E10F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8D59-62E0-45B9-AAA0-1EDAC2AC47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eblogs.media.mit.edu/llk/scratch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icocricke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lice.or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lanning and Running Summer Camp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bara Eric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ssistants check-in and check-out students each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ssistants bring balls and Frisbees for after the kids are done with 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ds are done in 20 minutes, but give the instructor 1 hour to eat and prepare for the rest of the 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home reminders about any special activities: recreation needs, last day demos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nd upload pictures/videos from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sure to do a group photo of the whole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st Da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minister survey on cam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k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post-camp attitude surv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be a special session for parents such as a walking tour and/or talk by ad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 out CDs of free software and URL of camp webs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burn CD with student work on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last day demos and hand-out t-shirts and certifica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demos (so people don’t leave ear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ter C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a clean-up.  Count and sort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lose some par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a meeting of instructors and student assistants to go over any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recommendations for next ye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load pictures and video from the camp to the camp web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e and review survey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activ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of Cam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ctor ($625 – $1,000 a wee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ssistants ($10 – $12 an hou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x 10 x 40 = $800 a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x 12 x 40 = $960 a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ch, t-shirt, id cards, nametags, recreation fees, flyers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$50 per student per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ation f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ch out for credit card fees of up to 2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let people pay with a credit car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me versus Cos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ddle School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 kids x $275 a kid = $4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kids x $50 a kid = $2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: $43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: $2750 – $14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ncluding any charges for rooms, equipment, credit cards or admin suppo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c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625-$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ssis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800-$96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, lunch, t-shirt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$50 =  $1,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1625 - $29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me versus Cos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School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 kids x $75 a kid = $1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kids x $50 a kid = $2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: $13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: $250 - 158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ncluding any charges for rooms,  equipment, credit cards, or admin sup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c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625-$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ssis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800-$96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, lunch, t-shirt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$50 =  $1,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1625 - $29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tal Profit/Lo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weeks of middle schoo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 of $8250 - $42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weeks of high school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 of $500 - $317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profit $1075 - $775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ddle school camps subsidize the high school cam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recommend that you run at least 3 weeks of middle school cam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bout $300 a year for spare parts for robot k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bout $200 a year for other materials and supp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ems you will N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ital Came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one that can take video clips with sou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jec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n’t do lots of lecture but get them star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bot k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you choose to do robots in your ca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inters ta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icket k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you choose to do Cricket projects in your ca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ther items for projec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 might want to use a wiki or swik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erials: nametags, letters, flyers, CDs, t-shir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logo for the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fl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sure it appeals to girls and boy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it to local middle and high schools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some hardcopy to schools, day cares, churc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it to local PT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7720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ions for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ratch and PICO Crick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s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ce and LEGO robo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s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ce, LEGO, Media Computation in Pyth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it and/or L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ems you will Ne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ing the Summer Ca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ions for Cont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software from M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g-and-drop program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 dri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to create 2D animations and g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ts of ideas for short pro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ratch Ca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eblogs.media.mit.edu/llk/scratch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 range: elementary to high sch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s Spanish, Portuguese, and Ger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on nearly any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on top of Squ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0574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O Crick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icoCricket Kit is similar to the LEGO® MINDSTORMS™ robotics ki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DSTORMS is designed especially for making robots, while the PicoCricket Kit is designed for making artistic creations with lights, sound, music, and mo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s with 8 project c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picocricket.com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 range: 9 and 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on Windows XP and Mac OS X (10.2+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USB 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3 AAA batteries per k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$250 per kit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it is fre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57800" y="4800600"/>
            <a:ext cx="3174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nclud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2908440"/>
            <a:ext cx="685800" cy="749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317840" y="4267080"/>
            <a:ext cx="2540160" cy="1930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286000" y="274320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286000" y="4343400"/>
            <a:ext cx="1523880" cy="77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2336760" cy="1282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838080" y="990720"/>
            <a:ext cx="135900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6553080" y="2133720"/>
            <a:ext cx="1917720" cy="184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5181480" y="1295280"/>
            <a:ext cx="1282680" cy="1041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1066680" y="4114800"/>
            <a:ext cx="660600" cy="73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4038480" y="266688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10080" y="24526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Pico Cr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52480" y="23623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Motor and Motor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29720" y="228600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Sound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58320" y="35812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Be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73960" y="35053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Colored Lights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75520" y="373392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21880" y="388620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Resistance</a:t>
            </a:r>
            <a:br>
              <a:rPr sz="1400"/>
            </a:b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760" y="472428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Sound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43880" y="5045040"/>
            <a:ext cx="15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Light and Touch </a:t>
            </a:r>
            <a:br>
              <a:rPr sz="1400"/>
            </a:b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19480" y="489096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USB-Serial</a:t>
            </a:r>
            <a:br>
              <a:rPr sz="1400"/>
            </a:b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software from CM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g-and-drop program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 dri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to create 3D movies and g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alice.org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 range: advanced middle to colle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on Windows ME, Windows 2000, Windows XP or Macintosh OS 10.3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D hardware is recommend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s a fair amount of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s lots of disk 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05520" y="4103640"/>
            <a:ext cx="3200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O Robo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otics Invention System 2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ail version software RCX code is easy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ly on e-bay n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on Win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s 10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ucation kit $2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is $49 ext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on Windows XP and Mac OS X 10.3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7480" y="1828800"/>
            <a:ext cx="21956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dia Comp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at Georgia T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ython on top of 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ge coll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a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s: High 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49840" y="1828800"/>
            <a:ext cx="349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-F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b – Apr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(1 month befo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-2 weeks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-2 days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c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 - Fe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k dates and determine f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ke sure to offer some dates in June and some in Ju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 room(s) and equipm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oms for camps, snack and/or lunch, and an auditorium for last day demo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flyer and send to local schools, PTSA, parents from previous year, local churches, YWCA, Boys and Girls Clu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a log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 middle school technology teachers and high school computing, science, and math teach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o to Dept of Ed web site and get addresses for schoo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/create web site for cam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/modify forms for cam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for groups that can fund scholarsh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b - Apr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act departments at your instit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mpus police, Admissions, Risk Management and Communic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portation office (if there is a pick up and drop off plac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king (if applicable) and Clinic (if &gt; 1 wee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creation Center (schedule a time with them and give them an account to bill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uzz Card Center (id card used to pay for lunches at the student center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re instructors for the camp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tructors, Graduate Students, High School Teach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view application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ke 3 piles in, out, and a waiting li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y for about even boys and girls and a high percentage of minority stud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eep a few slots for low income last minute applica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ify families if student(s) are accepted or put on waiting list (or not acceptab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d scholarship amount (better to have the parents pay at least $50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re student assista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per 10 studen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 always for drop-off and pick-u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 one can take a group to the room as they arr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ways hire at least one male and one femal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st to have college kids that know the camp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termine drop-off and pick-up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ve a plan for bad weather and late par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 that all paperwork is in for students and follow-up on any missing paper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applications are not complete by a cut-off date they lose their sp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der any supplies for the camp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-shirts (for campers and assistan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ametags (we do peel off ones and give them new ones each da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erve projector for ca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-2 Weeks Bef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all software and t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logins and pass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in student assista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cation of software and how to start 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to use the soft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to handle probl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unications pl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are any hardwar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 the contents of the kits and sort th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hedule student assist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-up camp website for uploading pictures, movies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 letter to parents at home on drop off and pick-up procedures and main contact phone nu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-2 Days Bef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ind student assistants where to go and what to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cell phone numbers for assistants and give them the mail contact cell phone nu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ind instructor where to go and what to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cell phone number for instruc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e-mail to parents on drop off and pick-up location and proced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location for last day dem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e-mail to campus departments to remind them about the ev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ck up projector and create nameta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 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any remaining forms from par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a pre-camp attitude surv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uctor should arrive 30 min - 1 hour early to check everyt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 assistants should arrive 30 min early and be in contact with instructor and main co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 assistants should check-in students and check-out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be a parent walking tour and/or talk by admi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green screen pictures and get id cards for lun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08:52Z</dcterms:created>
  <dc:creator>Barbara Jane Ericson</dc:creator>
  <dc:description/>
  <dc:language>en-US</dc:language>
  <cp:lastModifiedBy>Barbara Jane Ericson</cp:lastModifiedBy>
  <dcterms:modified xsi:type="dcterms:W3CDTF">2007-01-20T01:43:10Z</dcterms:modified>
  <cp:revision>229</cp:revision>
  <dc:subject/>
  <dc:title>Summer Camp Logistics Workshop</dc:title>
</cp:coreProperties>
</file>