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A737-36BD-407A-B79C-03B487DF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CF1C-BC87-4D88-B5A8-0D3F0EC6D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3C8E-654A-4E8E-9EC2-694C70CD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eb site is http://www.cc.gatech.edu/gacomputes.  USG is University System of Georg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21C8-1500-4BE4-9A90-D7617B49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81F7-B394-4D00-9ABA-9C1C7825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0A53-A13F-40FD-AE3F-34D5B9026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eb site for ICE is http://coweb.cc.gatech.edu/ice-g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6EDC-E34E-4244-BCFD-423B41D33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ith programming experience can start with the Intermediate programming course.  See http://public.doe.k12.ga.us/ci_cta.aspx?PageReq=CICTACRCo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standards for the computing courses in Georg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48A4-D51B-4A11-9095-291DE0F15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AE0-AC2E-489B-888C-603974DA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659A-4B39-4C4B-99A7-A2BCD8FB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7418-3815-4EB5-9701-3BDEADF3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beginning to work with the YWCA in 2007.  We also plan to work with the Boys and Girls clubs in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7A3-FAB0-4EAF-B089-633B831F4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directory AP Data for more information.  See 2007_Exam_Volume_Change.pdf for the change nationally over the years.  See https://apcourseaudit.epiconline.org/ledger/  for how many schools have passed the audit and even which sch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C6F-34EB-4E3B-B041-AE02F576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508-79AA-4799-8E74-391ECCBE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084-1537-46C8-97C3-79901B8F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6E3-BA01-4D4D-82C8-5D4FB9AA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1F93-1E8E-41A0-9257-2686E673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14A8-BCD7-4392-9E42-DA2C53E3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CD21-9353-4F86-99E5-64ABD218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E6DD-881C-4EA1-BEBE-7A512A13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ED2C-D0F1-4DF5-8086-01AA426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D3EF-6B1B-42E1-B83B-9E25B985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EF2C-E65F-49F1-A8BB-78128572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208-122A-4838-B28B-F494A3CA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9239-FC49-4EFD-9EA6-322022C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79E2-619F-4816-8ECE-5C9EA1F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BC0A-203A-44A9-AAD4-3B1B15A1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117C-739B-418B-9B20-15C0F134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DF86-616E-45A3-84A2-BEDDE8DF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48E-14AD-4A65-9D0C-09D42BC5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AD0-1319-4E0D-8D08-78C49085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A23-16C8-41B3-862F-C55CDD72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2B8-0436-4676-B576-363C583F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449-32C7-4F79-93E5-A3F98E1C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5DC-7F8C-4C8E-BDA1-F764A366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CEC-BA17-4E20-9D94-C27D4A5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4A5D-3BCB-4AFD-820E-25CA8713F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CF16-1273-496B-85BE-1329AA612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ummer Camp Logistics Workshop - Int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rbara Eric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orgia Compute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:  To broaden participation in computing throughout Georg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Originally funded by a $2 million NSF BPC grant over 3 yea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got a 2 year extension grant in fall 200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High school teacher worksho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Outreach activities with the Girl Scouts, YWCA, and oth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orkshops for USG faculty on our context-based introductions to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ops for USG faculty on summer cam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seed funds for the creation of new summer camp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ed Mone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ey to help get new summer camps started at USG instit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$15,000 a year over 2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Geographic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ustainable and diverse cam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ratio of male to female and minor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-25% scholarship assis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ending libr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ork with youth-serving organiz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-line application due by Dec 18,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up to $4999.99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isions by Jan 1, 20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$15,000 a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uld receive the money in Feb 20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i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tend content training in sp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ld at least one workshop with local youth-serving organizations in the sp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ld summer cam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minister pre and post surveys during summer cam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y of results in September including surve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 results at Fall works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er Camps 200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ed Money Recipi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umbus State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yne Summ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nnesaw State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omon Nega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rton Colle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ni Sing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rgia Southwestern State Universit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iang F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er Camps 200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ed Money Recipi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nnesaw State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omon Nega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bany State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in Sin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Southwestern State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oris Peltsverger and Xiang F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 Savanna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ulie Sonnenberg-Kle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er Camps 200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ed Money Recipi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cer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b Al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niversity of Georg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ileen Kraem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Southwestern State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ris Peltsver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rgia Gwinnett Colle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is Nag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I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s of 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towards go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Georgia Comp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SF BPC Grant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offer computing summer camp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ed money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9 repor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I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stitute for Computing Edu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coweb.cc.gatech.edu/ice-gt/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artnership 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Georgia’s Department of 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Georgia Tech’s College of Comp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unced June 20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Kathy Cox and Richard DeMi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KathyCoxRichDeMillo"/>
          <p:cNvPicPr/>
          <p:nvPr/>
        </p:nvPicPr>
        <p:blipFill>
          <a:blip r:embed="rId1"/>
          <a:stretch/>
        </p:blipFill>
        <p:spPr>
          <a:xfrm>
            <a:off x="3429000" y="5181480"/>
            <a:ext cx="19303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n more computing teachers in Georg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Especially Advanced Placement teac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 by training teachers to teach Computing in the Modern Worl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Use CSUnplugged, Alice, Scratch, and/or LEGO robo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n teachers to teach a Beginning Programming cour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Have new teachers teach this course 1-3 yea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Use Media Computation in Pyth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n teachers to teach an Intermediate Programming cour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Teach this for 1-3 yea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Use Media Computation in Java and Greenf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n teachers to become a CS AP A teac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train more CS teacher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here were about 44 AP CS teachers in Georgia in 20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AP CS exams taken is still less than physic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of the AP CS teachers were private school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lost some AP CS teachers since th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m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or over 370 public high school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 the number and diversity of CS stud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e number of CS majors has dropped 40-60% since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w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e percentage of women has dropp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o about 12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a high of about 30% in the early 80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has never been a significant percentage of African Americans, Hispanics, or Native Americ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chieve these goa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orkshops to train new and existing teach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a multimedia curriculum (Media Computa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ccessful at Georgia Tech for non-maj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shops match the Computing Pathway Cour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public.doe.k12.ga.us/ci_cta.aspx?PageReq=CICTACRComp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rovide year-round support for Georgia Teach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its, installation problems, special ev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 Bowl and database of sample exam ques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nding library of LEGO Mindstorms robots and PicoCricke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Help recruit new stud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er camps for middle and high school stu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reach activities with Girl Scouts, YWCA, Cool Girls, Boys and Girls Club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toward goa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training since 20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304 teachers from 199 schools and 12 states and Bermu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er cam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High school camps since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Middle school camps since 20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703d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-5</a:t>
            </a:r>
            <a:r>
              <a:rPr b="0" lang="en-US" sz="2400" spc="-1" strike="noStrike" baseline="30000">
                <a:solidFill>
                  <a:srgbClr val="703d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grade camps since 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reach since 200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ousands of girls through the Girl Scou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Hundreds of students through other grou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 Progr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27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1 Schools have passed the AP CS A audit in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4 offered AP CS in 200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, not all will run the cour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of students, equipment probl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85 students took the CS AP A exam in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Object 13"/>
          <p:cNvGraphicFramePr/>
          <p:nvPr/>
        </p:nvGraphicFramePr>
        <p:xfrm>
          <a:off x="4495680" y="1219320"/>
          <a:ext cx="3971880" cy="24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219320"/>
                    <a:ext cx="397188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5"/>
          <p:cNvGraphicFramePr/>
          <p:nvPr/>
        </p:nvGraphicFramePr>
        <p:xfrm>
          <a:off x="4494240" y="3643200"/>
          <a:ext cx="4029120" cy="267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4240" y="3643200"/>
                    <a:ext cx="402912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5:08:52Z</dcterms:created>
  <dc:creator>Barbara Jane Ericson</dc:creator>
  <dc:description/>
  <dc:language>en-US</dc:language>
  <cp:lastModifiedBy>localadmin</cp:lastModifiedBy>
  <dcterms:modified xsi:type="dcterms:W3CDTF">2009-11-10T20:58:41Z</dcterms:modified>
  <cp:revision>168</cp:revision>
  <dc:subject/>
  <dc:title>Summer Camp Logistics Workshop</dc:title>
</cp:coreProperties>
</file>