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2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4.jpeg" ContentType="image/jpeg"/>
  <Override PartName="/ppt/media/image35.png" ContentType="image/png"/>
  <Override PartName="/ppt/media/image5.jpeg" ContentType="image/jpeg"/>
  <Override PartName="/ppt/media/image42.png" ContentType="image/png"/>
  <Override PartName="/ppt/media/image9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49A-1583-4F47-88B5-64DED020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foot is built on top of BlueJ which is a development environment for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ic strips to teach students about object-oriented analysis and design.  This is also a great opportunity to teach about inheritance by pulling out the common fields and methods from the SpeechBalloon and ThoughtBalloon and making a parent class of TextBalloon.  But, you can't draw a TextBalloon object so it much be an abstract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A18-04DE-4F6F-BBF9-546AF1B3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B24-E5A1-47DB-B4A2-FF83825F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2D08-4026-4C9D-BC16-8FEFE34A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082-559C-4ADF-AFD8-E6F5E70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F2F-2E3A-473D-A9BD-695FB24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5C-F39F-47D7-9A3D-8DE5DD4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E9C-4857-485F-825C-1E63BDBC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7A8D-81A1-4EB3-A17A-ED26D8E4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1033-C441-46A2-8824-25CC11D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85EA-9302-4730-9997-CAE295C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6D75-1B75-4B81-B4F9-3623B72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E8D-B70F-4404-A2F6-BC1EE98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309-2E16-4CE4-9134-BF3EC78A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5195-7A04-4359-9460-910F4FC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A23-5C98-416F-A5D3-40FF3DD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7265-81D6-4F01-B186-56D8BED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379-1D36-4ABD-91E0-B013002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4FDF-CE73-4AF9-A33F-7481A130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7493-411D-4B00-A4A8-2E7A268F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4EF-95D5-4150-995F-B1D6D8DB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B4B-FB00-4306-BD6E-2A6FCD48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8A3-0CEC-4BC3-8AA9-EA35DB0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7F1-5D56-41CE-9782-AC31B3D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235-279B-4C60-AF95-CE8CDF5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DAB-F6CC-4A4F-8D49-1AE96AF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66A-318D-4428-BFD4-112DC88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59B-0A48-4020-B126-F774A8B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EE08-EF87-41A0-9855-18A773F3B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5C9-3237-4280-BDB7-570F28B59E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icson@cc.gatech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leoworld.com/" TargetMode="External"/><Relationship Id="rId2" Type="http://schemas.openxmlformats.org/officeDocument/2006/relationships/hyperlink" Target="http://www.pleoworld.com/" TargetMode="External"/><Relationship Id="rId3" Type="http://schemas.openxmlformats.org/officeDocument/2006/relationships/hyperlink" Target="http://www.pleoworld.com/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ice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foot.org/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s.cs.ubc.ca/~kla/" TargetMode="External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icocricket.com/" TargetMode="External"/><Relationship Id="rId2" Type="http://schemas.openxmlformats.org/officeDocument/2006/relationships/hyperlink" Target="http://www.picocricket.com/" TargetMode="External"/><Relationship Id="rId3" Type="http://schemas.openxmlformats.org/officeDocument/2006/relationships/hyperlink" Target="http://www.picocricket.com/" TargetMode="External"/><Relationship Id="rId4" Type="http://schemas.openxmlformats.org/officeDocument/2006/relationships/hyperlink" Target="http://www.picocricket.com/workshop-kit.html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colorado.edu/~buechley/projects/e-textile_kit/e-textile_kit2.html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oboteducation.org/" TargetMode="External"/><Relationship Id="rId2" Type="http://schemas.openxmlformats.org/officeDocument/2006/relationships/hyperlink" Target="http://www.roboteducation.org/" TargetMode="External"/><Relationship Id="rId3" Type="http://schemas.openxmlformats.org/officeDocument/2006/relationships/hyperlink" Target="http://www.roboteducation.org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ols, Tips, and Techniques for Teaching Computing Concept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bara Eric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rgia T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ricson@cc.gatech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coweb.cc.gatech.edu/ice-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eo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pleoworld.com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ails for $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azon has them for $2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 battery is $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programmed with MySk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 the new Pleo development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ensors.png"/>
          <p:cNvPicPr/>
          <p:nvPr/>
        </p:nvPicPr>
        <p:blipFill>
          <a:blip r:embed="rId4"/>
          <a:stretch/>
        </p:blipFill>
        <p:spPr>
          <a:xfrm>
            <a:off x="4495680" y="2209680"/>
            <a:ext cx="41148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e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ice (2.2 and 3.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B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nf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 Comput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ice and Media Co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a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software from MIT for creating 2D animations and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scratch.mit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3962520" cy="2997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86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ce 2.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software from CMU for creating 3D movies and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alice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733920" cy="2324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429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ce 3.0 Bet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software from CMU for creating 3D movies and gam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alice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des the Electronic Arts Sims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mport into Netbeans IDE as Java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771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B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website where you can type Java code answers to small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est your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create a log-in and share results with someone else (teach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 Nick Parlante of Stanford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javabat.com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7721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idWor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Placement Computer Science Case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of a larger program for students to learn 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teach object-oriente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1933560" cy="234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37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nfo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software from the Un. of Kent and Deakin Un. for building 2D simulations and game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greenfoot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do Karel the Robot and GridWorld in Greenf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195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28195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a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extual programs to manipulate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ediacomputation.or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97600" y="285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906640" cy="3943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43434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p-Audio Co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4197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ce and Media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ing computing concepts in Alice first and then covering the same concepts in Java with Media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home.cc.gatech.edu/Tea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am 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r of the Advanced Placement Computer Science Development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 creating the ex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chair of the NCWIT K-12 Al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r of the CSTA Board of Dir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 of Computing Outreach for Georgia Tech's College of Comp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or Teaching - Recu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in A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e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wers of Hano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realistic uses in Media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ccoli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angle subdi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y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call stack for each method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276720" cy="2192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2209680" cy="1752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62920" y="4648320"/>
            <a:ext cx="771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or Teaching - O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pl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urant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need a customer, greeter, waiter, chef, cash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k through the task of getting a person f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o does the ac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data does s/he need to do the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you classify the objec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dWorld role play from David Levine and Steve Andrianoff of St. Bonaventure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cs.sbu.edu/dlevine/RolePlay/roleplay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or Teaching - 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638680" cy="1158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606400" cy="2849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324480" y="2286000"/>
            <a:ext cx="23018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or Teaching -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Comparable and List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example of spies that need to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out knowing who they are communicating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at it allows you to substitute one class for an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long as the classes implement the same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stitute ArrayList or Vector or Linked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91120" cy="1006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33526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ques for Te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sthe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 Unplug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nesthetic Learning Activ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y-dough and cookie cutters for creating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a pass for students to leave the 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-N-Say for polymorph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ekly pill containers for 1-D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ttleship or egg cartons for 2-D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ed cups with beans for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 Unplugg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 materials for teaching computing concepts without a comp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csunplugged.org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3038400" cy="2219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181320" cy="181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567760" y="57150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3520" y="61279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nesthetic Learning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ques for teaching using kinesthetic activities from Un of California, Berke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s.cs.ubc.ca/~kla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chart Hopsco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Binary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outing on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5527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ols – that cost mone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O rob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oCri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oBo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RE rob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eo rob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able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O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legoeducation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XT Education kit $2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is $80 ex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e license $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trix base set $6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d NXT And Tetrix is $9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Do set $130 or $140 with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e license $2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7" descr="NXT"/>
          <p:cNvPicPr/>
          <p:nvPr/>
        </p:nvPicPr>
        <p:blipFill>
          <a:blip r:embed="rId1"/>
          <a:stretch/>
        </p:blipFill>
        <p:spPr>
          <a:xfrm>
            <a:off x="6324480" y="137160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O Crick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icoCricket Kit is similar to the LEGO® MINDSTORMS™ robotics ki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DSTORMS is designed especially for making robots, while the PicoCricket Kit is designed for making artistic creations with lights, sound, music, and mo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es with 8 project cards and more ideas at web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picocricket.com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range: 9 and 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s on Windows XP and Mac OS 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USB 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 3 AAA batteries per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$250 per kit 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kit is fre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shop kit for 20 for $1800 + shi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picocricket.com/workshop-kit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pico-kit"/>
          <p:cNvPicPr/>
          <p:nvPr/>
        </p:nvPicPr>
        <p:blipFill>
          <a:blip r:embed="rId5"/>
          <a:stretch/>
        </p:blipFill>
        <p:spPr>
          <a:xfrm>
            <a:off x="5791320" y="3505320"/>
            <a:ext cx="31748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clud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3" descr="Beamer"/>
          <p:cNvPicPr/>
          <p:nvPr/>
        </p:nvPicPr>
        <p:blipFill>
          <a:blip r:embed="rId1"/>
          <a:stretch/>
        </p:blipFill>
        <p:spPr>
          <a:xfrm>
            <a:off x="1066680" y="2908440"/>
            <a:ext cx="68580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able"/>
          <p:cNvPicPr/>
          <p:nvPr/>
        </p:nvPicPr>
        <p:blipFill>
          <a:blip r:embed="rId2"/>
          <a:stretch/>
        </p:blipFill>
        <p:spPr>
          <a:xfrm>
            <a:off x="4317840" y="4267080"/>
            <a:ext cx="2540160" cy="193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oloredLights"/>
          <p:cNvPicPr/>
          <p:nvPr/>
        </p:nvPicPr>
        <p:blipFill>
          <a:blip r:embed="rId3"/>
          <a:stretch/>
        </p:blipFill>
        <p:spPr>
          <a:xfrm>
            <a:off x="2286000" y="274320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Light_Touch_Sensor"/>
          <p:cNvPicPr/>
          <p:nvPr/>
        </p:nvPicPr>
        <p:blipFill>
          <a:blip r:embed="rId4"/>
          <a:stretch/>
        </p:blipFill>
        <p:spPr>
          <a:xfrm>
            <a:off x="2286000" y="4343400"/>
            <a:ext cx="1523880" cy="77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otor_MotorBoard"/>
          <p:cNvPicPr/>
          <p:nvPr/>
        </p:nvPicPr>
        <p:blipFill>
          <a:blip r:embed="rId5"/>
          <a:stretch/>
        </p:blipFill>
        <p:spPr>
          <a:xfrm>
            <a:off x="2590920" y="1143000"/>
            <a:ext cx="2336760" cy="1282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PicoCricket"/>
          <p:cNvPicPr/>
          <p:nvPr/>
        </p:nvPicPr>
        <p:blipFill>
          <a:blip r:embed="rId6"/>
          <a:stretch/>
        </p:blipFill>
        <p:spPr>
          <a:xfrm>
            <a:off x="838080" y="990720"/>
            <a:ext cx="1359000" cy="1523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ResistanceSensor"/>
          <p:cNvPicPr/>
          <p:nvPr/>
        </p:nvPicPr>
        <p:blipFill>
          <a:blip r:embed="rId7"/>
          <a:stretch/>
        </p:blipFill>
        <p:spPr>
          <a:xfrm>
            <a:off x="6553080" y="2133720"/>
            <a:ext cx="1917720" cy="1841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SoundBox"/>
          <p:cNvPicPr/>
          <p:nvPr/>
        </p:nvPicPr>
        <p:blipFill>
          <a:blip r:embed="rId8"/>
          <a:stretch/>
        </p:blipFill>
        <p:spPr>
          <a:xfrm>
            <a:off x="5181480" y="1295280"/>
            <a:ext cx="1282680" cy="1041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SoundSensor"/>
          <p:cNvPicPr/>
          <p:nvPr/>
        </p:nvPicPr>
        <p:blipFill>
          <a:blip r:embed="rId9"/>
          <a:stretch/>
        </p:blipFill>
        <p:spPr>
          <a:xfrm>
            <a:off x="1066680" y="4114800"/>
            <a:ext cx="660600" cy="73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Timer"/>
          <p:cNvPicPr/>
          <p:nvPr/>
        </p:nvPicPr>
        <p:blipFill>
          <a:blip r:embed="rId10"/>
          <a:stretch/>
        </p:blipFill>
        <p:spPr>
          <a:xfrm>
            <a:off x="4038480" y="266688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910080" y="24526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Pico Cr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652480" y="23623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Motor and Motor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229720" y="228600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Sound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958320" y="35812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Be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2073960" y="35053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Colored Lights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475520" y="373392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7121880" y="388620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Resistance</a:t>
            </a:r>
            <a:br>
              <a:rPr sz="1400"/>
            </a:b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80760" y="472428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Sound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243880" y="5045040"/>
            <a:ext cx="15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Light and Touch </a:t>
            </a:r>
            <a:br>
              <a:rPr sz="1400"/>
            </a:b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819480" y="489096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USB-Serial</a:t>
            </a:r>
            <a:br>
              <a:rPr sz="1400"/>
            </a:b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sb"/>
          <p:cNvPicPr/>
          <p:nvPr/>
        </p:nvPicPr>
        <p:blipFill>
          <a:blip r:embed="rId1"/>
          <a:stretch/>
        </p:blipFill>
        <p:spPr>
          <a:xfrm>
            <a:off x="5715000" y="1600200"/>
            <a:ext cx="2584440" cy="4711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oBoards (Scratc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from P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$50 ea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s $5.00 shipping for up to 10 (need to check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Scr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u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i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rable Compu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olorado.edu/~buechley/projects/e-textile_kit/e-textile_kit2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e LilyPad at http://www.sparkfun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6" descr="green2"/>
          <p:cNvPicPr/>
          <p:nvPr/>
        </p:nvPicPr>
        <p:blipFill>
          <a:blip r:embed="rId2"/>
          <a:stretch/>
        </p:blipFill>
        <p:spPr>
          <a:xfrm>
            <a:off x="5257800" y="2286000"/>
            <a:ext cx="3162240" cy="3174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paceball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1806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RE (Scribbler)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53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roboteducation.org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200 per robot and flu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mera and bluet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d in Pyth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do Media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5" descr="Ipre-fluke"/>
          <p:cNvPicPr/>
          <p:nvPr/>
        </p:nvPicPr>
        <p:blipFill>
          <a:blip r:embed="rId4"/>
          <a:stretch/>
        </p:blipFill>
        <p:spPr>
          <a:xfrm>
            <a:off x="4952880" y="251460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22:19:20Z</dcterms:created>
  <dc:creator>Barb Ericson</dc:creator>
  <dc:description/>
  <dc:language>en-US</dc:language>
  <cp:lastModifiedBy>Barb Ericson</cp:lastModifiedBy>
  <dcterms:modified xsi:type="dcterms:W3CDTF">2010-01-04T18:00:33Z</dcterms:modified>
  <cp:revision>242</cp:revision>
  <dc:subject/>
  <dc:title>Creating an Infrastructure for High School Computing Education in Georgia: Professional Development, Curriculum, and Certification </dc:title>
</cp:coreProperties>
</file>